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driveby.wav" ContentType="audio/x-wav"/>
  <Override PartName="/ppt/media/image15.wmf" ContentType="image/x-wmf"/>
  <Override PartName="/ppt/media/image14.wmf" ContentType="image/x-wmf"/>
  <Override PartName="/ppt/media/applause.wav" ContentType="audio/x-wav"/>
  <Override PartName="/ppt/media/image5.png" ContentType="image/png"/>
  <Override PartName="/ppt/media/whoosh.wav" ContentType="audio/x-wav"/>
  <Override PartName="/ppt/media/image13.wmf" ContentType="image/x-wmf"/>
  <Override PartName="/ppt/media/glass.wav" ContentType="audio/x-wav"/>
  <Override PartName="/ppt/media/image6.wmf" ContentType="image/x-wmf"/>
  <Override PartName="/ppt/media/image11.png" ContentType="image/png"/>
  <Override PartName="/ppt/media/projctor.wav" ContentType="audio/x-wav"/>
  <Override PartName="/ppt/media/image1.wmf" ContentType="image/x-wmf"/>
  <Override PartName="/ppt/media/ricochet.wav" ContentType="audio/x-wav"/>
  <Override PartName="/ppt/media/image16.wmf" ContentType="image/x-wmf"/>
  <Override PartName="/ppt/media/carbrake.wav" ContentType="audio/x-wav"/>
  <Override PartName="/ppt/media/image18.wmf" ContentType="image/x-wmf"/>
  <Override PartName="/ppt/media/image20.wmf" ContentType="image/x-wmf"/>
  <Override PartName="/ppt/media/image19.wmf" ContentType="image/x-wmf"/>
  <Override PartName="/ppt/media/image4.wmf" ContentType="image/x-wmf"/>
  <Override PartName="/ppt/media/image3.wmf" ContentType="image/x-wmf"/>
  <Override PartName="/ppt/media/laser.wav" ContentType="audio/x-wav"/>
  <Override PartName="/ppt/media/image12.wmf" ContentType="image/x-wmf"/>
  <Override PartName="/ppt/media/drumroll.wav" ContentType="audio/x-wav"/>
  <Override PartName="/ppt/media/chimes.wav" ContentType="audio/x-wav"/>
  <Override PartName="/ppt/media/image2.wmf" ContentType="image/x-wmf"/>
  <Override PartName="/ppt/media/image21.wmf" ContentType="image/x-wmf"/>
  <Override PartName="/ppt/media/type.wav" ContentType="audio/x-wav"/>
  <Override PartName="/ppt/media/image7.wmf" ContentType="image/x-wmf"/>
  <Override PartName="/ppt/media/image8.wmf" ContentType="image/x-wmf"/>
  <Override PartName="/ppt/media/image9.wmf" ContentType="image/x-wmf"/>
  <Override PartName="/ppt/media/camera.wav" ContentType="audio/x-wav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A3D-3EB4-4CBF-A274-87FE2511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834-D280-4ED7-A7AC-B90D6E08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F6C-C0C9-43A7-8541-04BC691E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729-EE62-4396-9192-FD3DC105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A5F-1743-49FE-972C-AB5A628E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76A-231C-4947-8154-061A30BD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BFE-9C66-4A64-A70B-D5F8442D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EA9-BB80-4CF7-A60E-2A2F1CC2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0AB-9BBF-49E6-AF74-A467ECDB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17F-D8CF-4B51-BBC9-10013914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CFB-BBE8-4B8D-8DB0-B389661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DFD-3417-47E6-AC2C-59B637B5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2D55-18C3-491F-B5A5-AB420C0B5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audio" Target="../media/drumroll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audio" Target="../media/laser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audio" Target="../media/projctor.wav"/><Relationship Id="rId14" Type="http://schemas.openxmlformats.org/officeDocument/2006/relationships/audio" Target="../media/chimes.wav"/><Relationship Id="rId15" Type="http://schemas.openxmlformats.org/officeDocument/2006/relationships/audio" Target="../media/projctor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audio" Target="../media/carbrake.wav"/><Relationship Id="rId12" Type="http://schemas.openxmlformats.org/officeDocument/2006/relationships/audio" Target="../media/glass.wav"/><Relationship Id="rId13" Type="http://schemas.openxmlformats.org/officeDocument/2006/relationships/audio" Target="../media/carbrake.wav"/><Relationship Id="rId14" Type="http://schemas.openxmlformats.org/officeDocument/2006/relationships/audio" Target="../media/glass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audio" Target="../media/whoosh.wav"/><Relationship Id="rId16" Type="http://schemas.openxmlformats.org/officeDocument/2006/relationships/audio" Target="../media/camera.wav"/><Relationship Id="rId17" Type="http://schemas.openxmlformats.org/officeDocument/2006/relationships/audio" Target="../media/laser.wav"/><Relationship Id="rId18" Type="http://schemas.openxmlformats.org/officeDocument/2006/relationships/audio" Target="../media/whoosh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audio" Target="../media/applause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audio" Target="../media/driveby.wav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wer 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ol E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ade Level: Pre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urriculum Area: Math/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ate: September 25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305640" y="3429000"/>
            <a:ext cx="262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2973600" y="3429000"/>
            <a:ext cx="126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99"/>
                </a:solidFill>
                <a:latin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267800" y="3429000"/>
            <a:ext cx="262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6936120" y="3429000"/>
            <a:ext cx="126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99"/>
                </a:solidFill>
                <a:latin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Program Files\Common Files\Microsoft Shared\Clipart\cagcat50\an01124_.wmf"/>
          <p:cNvPicPr/>
          <p:nvPr/>
        </p:nvPicPr>
        <p:blipFill>
          <a:blip r:embed="rId1"/>
          <a:stretch/>
        </p:blipFill>
        <p:spPr>
          <a:xfrm>
            <a:off x="7010280" y="28954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Program Files\Common Files\Microsoft Shared\Clipart\cagcat50\an02542_.wmf"/>
          <p:cNvPicPr/>
          <p:nvPr/>
        </p:nvPicPr>
        <p:blipFill>
          <a:blip r:embed="rId2"/>
          <a:stretch/>
        </p:blipFill>
        <p:spPr>
          <a:xfrm>
            <a:off x="4952880" y="2971800"/>
            <a:ext cx="1793880" cy="173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Program Files\Common Files\Microsoft Shared\Clipart\cagcat50\an01124_.wmf"/>
          <p:cNvPicPr/>
          <p:nvPr/>
        </p:nvPicPr>
        <p:blipFill>
          <a:blip r:embed="rId3"/>
          <a:stretch/>
        </p:blipFill>
        <p:spPr>
          <a:xfrm>
            <a:off x="3352680" y="28954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Program Files\Common Files\Microsoft Shared\Clipart\cagcat50\an02542_.wmf"/>
          <p:cNvPicPr/>
          <p:nvPr/>
        </p:nvPicPr>
        <p:blipFill>
          <a:blip r:embed="rId4"/>
          <a:stretch/>
        </p:blipFill>
        <p:spPr>
          <a:xfrm>
            <a:off x="1600200" y="2971800"/>
            <a:ext cx="1600200" cy="154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Program Files\Common Files\Microsoft Shared\Clipart\cagcat50\an01124_.wmf"/>
          <p:cNvPicPr/>
          <p:nvPr/>
        </p:nvPicPr>
        <p:blipFill>
          <a:blip r:embed="rId5"/>
          <a:stretch/>
        </p:blipFill>
        <p:spPr>
          <a:xfrm>
            <a:off x="0" y="2819520"/>
            <a:ext cx="1409760" cy="1716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366480" y="4562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347920" y="4410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24080" y="46386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852880" y="471492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7833960" y="47149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77208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3352680"/>
          <a:ext cx="1676520" cy="12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167652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8"/>
          <p:cNvSpPr/>
          <p:nvPr/>
        </p:nvSpPr>
        <p:spPr>
          <a:xfrm>
            <a:off x="37720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733920" y="3276720"/>
          <a:ext cx="16002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276720"/>
                    <a:ext cx="16002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0" y="3276720"/>
          <a:ext cx="1076400" cy="13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276720"/>
                    <a:ext cx="10764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562720" y="3200400"/>
          <a:ext cx="1076040" cy="130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3200400"/>
                    <a:ext cx="107604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2920" y="3276720"/>
          <a:ext cx="1600200" cy="121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3276720"/>
                    <a:ext cx="16002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11"/>
          <p:cNvSpPr/>
          <p:nvPr/>
        </p:nvSpPr>
        <p:spPr>
          <a:xfrm>
            <a:off x="289080" y="484200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590920" y="4876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3809880" y="4889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5867280" y="5029200"/>
            <a:ext cx="99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867280" y="4952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74674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6241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52480" y="3048120"/>
          <a:ext cx="175284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175284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11"/>
          <p:cNvSpPr/>
          <p:nvPr/>
        </p:nvSpPr>
        <p:spPr>
          <a:xfrm>
            <a:off x="3657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3200400"/>
          <a:ext cx="1676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657600" y="3124080"/>
          <a:ext cx="16002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312408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486400" y="3124080"/>
          <a:ext cx="160020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124080"/>
                    <a:ext cx="160020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7391520" y="3200400"/>
          <a:ext cx="152388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3200400"/>
                    <a:ext cx="1523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71016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3124080"/>
          <a:ext cx="1219320" cy="10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12193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7"/>
          <p:cNvSpPr/>
          <p:nvPr/>
        </p:nvSpPr>
        <p:spPr>
          <a:xfrm>
            <a:off x="37814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2971800"/>
          <a:ext cx="137160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71800"/>
                    <a:ext cx="13716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4038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2895480"/>
          <a:ext cx="88884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2895480"/>
                    <a:ext cx="8888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505320" y="3048120"/>
          <a:ext cx="1295280" cy="11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48120"/>
                    <a:ext cx="1295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0600" y="3048120"/>
          <a:ext cx="1295280" cy="11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048120"/>
                    <a:ext cx="12952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19920" y="2895480"/>
          <a:ext cx="88884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2895480"/>
                    <a:ext cx="8888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934320" y="3124080"/>
          <a:ext cx="1371600" cy="118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124080"/>
                    <a:ext cx="13716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14"/>
          <p:cNvSpPr/>
          <p:nvPr/>
        </p:nvSpPr>
        <p:spPr>
          <a:xfrm>
            <a:off x="228600" y="43340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662120" y="43340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743200" y="425772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4114800" y="4309920"/>
            <a:ext cx="8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5181480" y="4343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6021360" y="44197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7543800" y="4497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mi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43368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2895480"/>
          <a:ext cx="227664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95480"/>
                    <a:ext cx="22766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7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362320" y="3200400"/>
          <a:ext cx="19047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200400"/>
                    <a:ext cx="19047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238880" y="3276720"/>
          <a:ext cx="190512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3276720"/>
                    <a:ext cx="1905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572000" y="3124080"/>
          <a:ext cx="2276640" cy="227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124080"/>
                    <a:ext cx="22766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3505320"/>
          <a:ext cx="1671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05320"/>
                    <a:ext cx="1671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7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057400" y="3581280"/>
          <a:ext cx="15447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581280"/>
                    <a:ext cx="1544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9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62520" y="3505320"/>
          <a:ext cx="15444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505320"/>
                    <a:ext cx="154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11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867280" y="3581280"/>
          <a:ext cx="154476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581280"/>
                    <a:ext cx="1544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3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0120" y="3581280"/>
          <a:ext cx="135072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581280"/>
                    <a:ext cx="135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3505320"/>
          <a:ext cx="1544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05320"/>
                    <a:ext cx="154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7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3581280"/>
          <a:ext cx="141588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581280"/>
                    <a:ext cx="1415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9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57600" y="3429000"/>
          <a:ext cx="136044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3429000"/>
                    <a:ext cx="1360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11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952880" y="3505320"/>
          <a:ext cx="147960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505320"/>
                    <a:ext cx="1479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3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553080" y="3581280"/>
          <a:ext cx="13525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3581280"/>
                    <a:ext cx="135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15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315200" y="3581280"/>
          <a:ext cx="141444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3581280"/>
                    <a:ext cx="1414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57200" y="28195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898560" y="3267000"/>
            <a:ext cx="1768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974880" y="2500200"/>
            <a:ext cx="1387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838080" y="31240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209680" y="3200400"/>
            <a:ext cx="138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3429000" y="3200400"/>
            <a:ext cx="10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4878000" y="320040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6021720" y="320040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7392600" y="320040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23:12:35Z</dcterms:created>
  <dc:creator>default</dc:creator>
  <dc:description/>
  <dc:language>en-US</dc:language>
  <cp:lastModifiedBy>Laurie Yingling</cp:lastModifiedBy>
  <dcterms:modified xsi:type="dcterms:W3CDTF">2009-11-10T17:58:49Z</dcterms:modified>
  <cp:revision>14</cp:revision>
  <dc:subject/>
  <dc:title>Patterns</dc:title>
</cp:coreProperties>
</file>